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607-1735-441A-A00A-50B5832E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2E1-7A32-4EA7-9D71-91A54633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DF9-A988-4B50-83C4-F302E64B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59D-1FAA-48AC-92A5-3F3F2E8A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B804-1790-45FB-A792-DC767DE2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AABC-21D3-4CCF-9DE7-49784907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9B78-0D17-4C85-AE3F-C3F98939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4111-8653-4CFC-ABE2-95729481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2DF7-8B14-494D-882B-CB162FFB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E676-F77B-4741-A9FC-6E161262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D0CB-9648-4515-975B-813769C9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B9A-76F3-4C31-B84B-47D57DFF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6114-9C64-4986-B2D6-3C05A06E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C7D2-07D7-4DE6-92B1-8D70E9A8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76C9-F21F-4657-B31A-D21D4D25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3D23-04E5-405F-AAB8-0FE44D8A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8739-1E60-47B5-8D8B-E01B2E3A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0F1-A02E-4134-8258-1EBF0BE3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2E7-AF48-45B3-B07C-D09F20B0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DD7-00A4-4F14-8D39-BB6CEEF5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CA7-688A-4C88-AD6B-89C19AC3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7CD-613C-4B3E-B6BD-AA742A2A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1A2-FC39-4A3D-A8EE-3B35FE59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3DD-41B7-4AF4-A107-C776BE78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EDD2-C06F-42B0-97A7-CF10F36C96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C399-C241-4BB5-B620-2F2D856292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Stage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er Ex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irement,child rearing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a complete disconnect from th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mportant to no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s are not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and environmental environments can affec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rganizational Environ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ve environment will reinforce, reward and encour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list.  How have some organizational issues listed made an impact on teachers you know, perhaps your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reasons for dissatisf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tery of pup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 head or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y of school district choice of a program (e.g. reading, sci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dictors of Satisf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k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d in school-wide 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ght,spontaneous role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of achieving significant results in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ssumption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scenario for satisfactory career development is through a craft model (artis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s of p.d. most likely to succeed will be grafted on the ways in which teachers spontaneously go about tinkering in their class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experimental time, collecting data before and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ter collaboration that respects one’s work as an arti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sonal Environ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list.  How can issues listed change a person’s career  stage, positively or negativ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ern-Based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option Mo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handout and note the stages of concern whenever an innovation is pres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er Cycl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move through the stages in a lock-step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personal life affects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environment affects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hand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serv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of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urse Wor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eld Observ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 Teaching/Inter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duction:  Years 1 &amp;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ized into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ve for acceptance by students, peers, and supervi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achieve a comfort and security level in dealing with everyda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petency Build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ve to improve teaching skills and 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out new materials, methods, an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ptive to new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job as challenging and eager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thusiastic and Grow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realized high level of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ly seeking new ways to enrich their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ve and helpful in identifying professional development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er Frust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strated and disillusi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midpoint in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able and Stagn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ved to “doing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hat is expected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mmitted to pursuit of excellence and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 at surfac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er Wind Dow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to leave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, a pleasan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, a bitt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ast several years or a matter of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1:59:12Z</dcterms:created>
  <dc:creator>Denise G. Meister</dc:creator>
  <dc:description/>
  <dc:language>en-US</dc:language>
  <cp:lastModifiedBy>csteinbacher</cp:lastModifiedBy>
  <dcterms:modified xsi:type="dcterms:W3CDTF">2010-03-27T15:32:06Z</dcterms:modified>
  <cp:revision>17</cp:revision>
  <dc:subject/>
  <dc:title>C&amp;S563--Class #4</dc:title>
</cp:coreProperties>
</file>